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C19-3A4C-48B8-8510-2846BFBE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816-FA8F-42F9-A653-7B1FFD1B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64E-CB82-4CE1-A477-3A64842E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4FA-23EA-4EF9-BE03-E9881B51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D47-74B8-4F6D-AA75-1DB801CD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AB9-9117-41BF-B7E8-2173726C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771-ACE1-4804-8991-3949B3CD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04F-EE27-4AAE-954A-D41F76D4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322-7205-47FC-874B-88F592D3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3B1-1667-40DB-9424-3C8984CD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9A2-5A96-49C5-B222-A8ED9A03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A47-9F8A-4C8B-ACFF-0D348E6D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0FE2-42CA-4D35-A4CD-BE97038CDC68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43120"/>
            <a:ext cx="9144000" cy="147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Verdana"/>
              </a:rPr>
              <a:t>ACIDS &amp;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ases contain hydroxide ions: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bases: baking soda, soap, ant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solutions of bases conduct electricity becau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so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bases are safe to consume or be in contact with.  Others are corrosive &amp; dang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have a bitter taste &amp; slippery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9160" y="2362320"/>
            <a:ext cx="191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O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27590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38080" y="5943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odium 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457200" y="6858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342120" y="2286000"/>
            <a:ext cx="234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H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3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68738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724280" y="5943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odium bi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-280080" y="16765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are the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COMMON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18273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ame rules as for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formula in solu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O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dium 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(OH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gnesium 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(OH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ium hyd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H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dium bi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128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1"/>
          <p:cNvSpPr/>
          <p:nvPr/>
        </p:nvSpPr>
        <p:spPr>
          <a:xfrm>
            <a:off x="712296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2"/>
          <p:cNvSpPr/>
          <p:nvPr/>
        </p:nvSpPr>
        <p:spPr>
          <a:xfrm>
            <a:off x="160020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1371600" y="2133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dium hydr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80060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en-US" sz="48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NaOH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1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24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24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ompounds that produce hydrogen ions in solution: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cids: citric acid, vine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solutions of acids conduct electricity becaus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o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cids are corrosive &amp; react wi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have a sour ta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830240" y="2362320"/>
            <a:ext cx="1954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4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27590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0666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XY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57200" y="6858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054120" y="2286000"/>
            <a:ext cx="1637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38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29200" y="5943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1814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NARY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-280080" y="16765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are the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BINAR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18273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mposed of hydrogen + a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formula in solu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ical Acid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u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flu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chl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brom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q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d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iod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59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1"/>
          <p:cNvSpPr/>
          <p:nvPr/>
        </p:nvSpPr>
        <p:spPr>
          <a:xfrm>
            <a:off x="697068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2"/>
          <p:cNvSpPr/>
          <p:nvPr/>
        </p:nvSpPr>
        <p:spPr>
          <a:xfrm>
            <a:off x="175248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676520" y="22096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ydrobrom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80060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B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Br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8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8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OXO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1827360"/>
            <a:ext cx="890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hydrogen, oxygen, and another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yatomic 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hl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rbon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hosph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78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1"/>
          <p:cNvSpPr/>
          <p:nvPr/>
        </p:nvSpPr>
        <p:spPr>
          <a:xfrm>
            <a:off x="6284880" y="990720"/>
            <a:ext cx="420840" cy="609480"/>
          </a:xfrm>
          <a:custGeom>
            <a:avLst/>
            <a:gdLst>
              <a:gd name="textAreaLeft" fmla="*/ 0 w 420840"/>
              <a:gd name="textAreaRight" fmla="*/ 421200 w 420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2"/>
          <p:cNvSpPr/>
          <p:nvPr/>
        </p:nvSpPr>
        <p:spPr>
          <a:xfrm>
            <a:off x="243828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hlor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Cl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3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12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1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63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OXO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827360"/>
            <a:ext cx="890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olyatomic ion ends in “ite”, use “–ous” for the acid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259560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yatomic 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hlor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rbon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ous 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97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1"/>
          <p:cNvSpPr/>
          <p:nvPr/>
        </p:nvSpPr>
        <p:spPr>
          <a:xfrm>
            <a:off x="6361200" y="990720"/>
            <a:ext cx="420480" cy="609480"/>
          </a:xfrm>
          <a:custGeom>
            <a:avLst/>
            <a:gdLst>
              <a:gd name="textAreaLeft" fmla="*/ 0 w 420480"/>
              <a:gd name="textAreaRight" fmla="*/ 420840 w 420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728" h="1056">
                <a:moveTo>
                  <a:pt x="288" y="496"/>
                </a:moveTo>
                <a:cubicBezTo>
                  <a:pt x="296" y="472"/>
                  <a:pt x="192" y="288"/>
                  <a:pt x="192" y="208"/>
                </a:cubicBezTo>
                <a:cubicBezTo>
                  <a:pt x="192" y="128"/>
                  <a:pt x="256" y="0"/>
                  <a:pt x="288" y="16"/>
                </a:cubicBezTo>
                <a:cubicBezTo>
                  <a:pt x="320" y="32"/>
                  <a:pt x="368" y="216"/>
                  <a:pt x="384" y="304"/>
                </a:cubicBezTo>
                <a:cubicBezTo>
                  <a:pt x="400" y="392"/>
                  <a:pt x="344" y="552"/>
                  <a:pt x="384" y="544"/>
                </a:cubicBezTo>
                <a:cubicBezTo>
                  <a:pt x="424" y="536"/>
                  <a:pt x="576" y="272"/>
                  <a:pt x="624" y="256"/>
                </a:cubicBezTo>
                <a:cubicBezTo>
                  <a:pt x="672" y="240"/>
                  <a:pt x="704" y="384"/>
                  <a:pt x="672" y="448"/>
                </a:cubicBezTo>
                <a:cubicBezTo>
                  <a:pt x="640" y="512"/>
                  <a:pt x="424" y="560"/>
                  <a:pt x="432" y="640"/>
                </a:cubicBezTo>
                <a:cubicBezTo>
                  <a:pt x="440" y="720"/>
                  <a:pt x="728" y="864"/>
                  <a:pt x="720" y="928"/>
                </a:cubicBezTo>
                <a:cubicBezTo>
                  <a:pt x="712" y="992"/>
                  <a:pt x="448" y="1056"/>
                  <a:pt x="384" y="1024"/>
                </a:cubicBezTo>
                <a:cubicBezTo>
                  <a:pt x="320" y="992"/>
                  <a:pt x="384" y="760"/>
                  <a:pt x="336" y="736"/>
                </a:cubicBezTo>
                <a:cubicBezTo>
                  <a:pt x="288" y="712"/>
                  <a:pt x="144" y="888"/>
                  <a:pt x="96" y="880"/>
                </a:cubicBezTo>
                <a:cubicBezTo>
                  <a:pt x="48" y="872"/>
                  <a:pt x="40" y="728"/>
                  <a:pt x="48" y="688"/>
                </a:cubicBezTo>
                <a:cubicBezTo>
                  <a:pt x="56" y="648"/>
                  <a:pt x="152" y="664"/>
                  <a:pt x="144" y="640"/>
                </a:cubicBezTo>
                <a:cubicBezTo>
                  <a:pt x="136" y="616"/>
                  <a:pt x="0" y="592"/>
                  <a:pt x="0" y="544"/>
                </a:cubicBezTo>
                <a:cubicBezTo>
                  <a:pt x="0" y="496"/>
                  <a:pt x="96" y="360"/>
                  <a:pt x="144" y="352"/>
                </a:cubicBezTo>
                <a:cubicBezTo>
                  <a:pt x="192" y="344"/>
                  <a:pt x="280" y="520"/>
                  <a:pt x="288" y="496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2"/>
          <p:cNvSpPr/>
          <p:nvPr/>
        </p:nvSpPr>
        <p:spPr>
          <a:xfrm>
            <a:off x="2438280" y="1143000"/>
            <a:ext cx="339840" cy="343080"/>
          </a:xfrm>
          <a:custGeom>
            <a:avLst/>
            <a:gdLst>
              <a:gd name="textAreaLeft" fmla="*/ 0 w 339840"/>
              <a:gd name="textAreaRight" fmla="*/ 340200 w 339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12" h="2120">
                <a:moveTo>
                  <a:pt x="856" y="800"/>
                </a:moveTo>
                <a:cubicBezTo>
                  <a:pt x="744" y="840"/>
                  <a:pt x="584" y="360"/>
                  <a:pt x="472" y="320"/>
                </a:cubicBezTo>
                <a:cubicBezTo>
                  <a:pt x="360" y="280"/>
                  <a:pt x="160" y="456"/>
                  <a:pt x="184" y="560"/>
                </a:cubicBezTo>
                <a:cubicBezTo>
                  <a:pt x="208" y="664"/>
                  <a:pt x="640" y="792"/>
                  <a:pt x="616" y="944"/>
                </a:cubicBezTo>
                <a:cubicBezTo>
                  <a:pt x="592" y="1096"/>
                  <a:pt x="80" y="1344"/>
                  <a:pt x="40" y="1472"/>
                </a:cubicBezTo>
                <a:cubicBezTo>
                  <a:pt x="0" y="1600"/>
                  <a:pt x="256" y="1768"/>
                  <a:pt x="376" y="1712"/>
                </a:cubicBezTo>
                <a:cubicBezTo>
                  <a:pt x="496" y="1656"/>
                  <a:pt x="624" y="1080"/>
                  <a:pt x="760" y="1136"/>
                </a:cubicBezTo>
                <a:cubicBezTo>
                  <a:pt x="896" y="1192"/>
                  <a:pt x="1032" y="1976"/>
                  <a:pt x="1192" y="2048"/>
                </a:cubicBezTo>
                <a:cubicBezTo>
                  <a:pt x="1352" y="2120"/>
                  <a:pt x="1736" y="1720"/>
                  <a:pt x="1720" y="1568"/>
                </a:cubicBezTo>
                <a:cubicBezTo>
                  <a:pt x="1704" y="1416"/>
                  <a:pt x="1056" y="1200"/>
                  <a:pt x="1096" y="1136"/>
                </a:cubicBezTo>
                <a:cubicBezTo>
                  <a:pt x="1136" y="1072"/>
                  <a:pt x="1816" y="1240"/>
                  <a:pt x="1960" y="1184"/>
                </a:cubicBezTo>
                <a:cubicBezTo>
                  <a:pt x="2104" y="1128"/>
                  <a:pt x="2112" y="848"/>
                  <a:pt x="1960" y="800"/>
                </a:cubicBezTo>
                <a:cubicBezTo>
                  <a:pt x="1808" y="752"/>
                  <a:pt x="1128" y="976"/>
                  <a:pt x="1048" y="896"/>
                </a:cubicBezTo>
                <a:cubicBezTo>
                  <a:pt x="968" y="816"/>
                  <a:pt x="1464" y="456"/>
                  <a:pt x="1480" y="320"/>
                </a:cubicBezTo>
                <a:cubicBezTo>
                  <a:pt x="1496" y="184"/>
                  <a:pt x="1240" y="0"/>
                  <a:pt x="1144" y="80"/>
                </a:cubicBezTo>
                <a:cubicBezTo>
                  <a:pt x="1048" y="160"/>
                  <a:pt x="968" y="760"/>
                  <a:pt x="856" y="80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hlorous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595320" y="4262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951160" y="4290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76596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084000" y="427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= HCl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</a:rPr>
              <a:t>2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Verdana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-291960" y="99072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16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16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8:51:37Z</dcterms:created>
  <dc:creator>User</dc:creator>
  <dc:description/>
  <dc:language>en-US</dc:language>
  <cp:lastModifiedBy>rubina khan</cp:lastModifiedBy>
  <dcterms:modified xsi:type="dcterms:W3CDTF">2016-09-29T02:30:04Z</dcterms:modified>
  <cp:revision>103</cp:revision>
  <dc:subject/>
  <dc:title>Naming and Formula Writing</dc:title>
</cp:coreProperties>
</file>